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1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 type="sldNum" idx="1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41FC-6211-42E3-A8C0-C5FD6D76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AF33-1B70-4DFE-AF31-60D7432B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2CD4-8442-41C9-A9BD-B074AF29B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CF96-5505-4976-8C11-9AB3CC40AE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8FC77-5EFC-4338-8229-31264E8D1D5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FFA7BE-60AC-438F-9DDC-CE7B0E39FD1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DBE2A-CE46-49B6-90C9-20B4C2A3E3E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A65D3-4123-4061-9303-851F7802BD5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111DC-3698-48AD-97C2-0BE5428F70D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AAC03-8608-4F15-AB19-ED8C22A827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F83F0-B42E-4241-BC3E-5E8E20E309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7157E-FE8F-4317-B757-DE793424E4B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7FB5A-D3CC-40AF-816B-D34EC727740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579EC-935A-4328-842D-035091272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AFB8-C858-4FEB-BD82-6AEDE875E6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FA94B-7107-4BAE-8279-0A433920AD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89973-FF06-43C6-85D0-FA48FF6D6A8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06140-928B-40F9-9639-ECFBC65B7DB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BB575-3BA1-4D97-A502-01F69F690D4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74E97-ACC2-450E-9CF2-0C0A488904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6C780-D1A4-4504-8405-79CB4BDDAED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ED654-E402-4FFD-B560-A3F3A79A31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3B869-AD4D-4E84-A79B-489ABE1697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2A09B-81BA-446A-A504-ED2CFC82AA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3A43E-9CE2-43C8-BE01-31146925D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67BB-C26E-4025-879C-356AB03D2CA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B2831-3E16-49E0-9E48-DA0F0B6DFBD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A9374-D057-4E56-8CDC-A808B534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B7E8D-BB0F-449F-8E28-5F347F1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FED61-C90A-4B71-9FF7-048AF5C0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C1486-D87F-48E2-92F5-5F1274B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F54FE-4F2D-499D-9DE0-41681681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0B6AC-EFE4-4C00-BBC6-F037873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10D24-C462-416A-9BE1-6B7405A5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15AAD-C847-4536-BE8F-A22584FA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C89D0-378F-4576-A86A-A7B2C4C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887F-D0AF-4F11-ACEC-2112D322A59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FFFC8-8A18-45B1-B432-1F360713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C007C-18B0-4349-AFCA-FF381365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B9919-5437-4538-B7AF-F59C4139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E200-A2A1-43FC-A4D4-429142E207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1C2B-2E27-4CD2-B8EB-9642373E51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49CF-6FE6-4930-B196-B62F841D4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A54A-C2AE-47C2-B58A-4290761E7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DDD5-0B1C-4B78-B7AE-0AFE555A6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ED14-3B32-49D2-ACE1-413715055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0895-0D01-4FEB-9BFB-880147F50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9C66-0367-4B6A-9490-B231EDBEE7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4F43-254C-40FD-986B-768618427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FA84-CF51-4D01-A817-985DF5777D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2560-B831-4B2F-BA6D-D7C42F373F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79D3-AB61-4C96-901C-65628A1B27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8D98-98A2-4A9B-B6ED-0D418C4C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5410-9775-40EF-9BE9-826A1C0B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7BF20-C195-4FD7-B412-AF009AE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0A442-3AA1-4219-B51C-A0649E29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C2177-B82F-40B4-A4D4-190DAA06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596E-A9F1-4937-B7AC-2C3EFD56B5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60783-A694-49D4-A13D-42A95799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D851-1105-443C-BF22-EC31A8B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A3218-630F-4692-9876-40F865A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56B19-DCFA-4B07-B787-F3B7954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17040-176D-4209-8B35-E77639B0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17C4-43AF-41D1-B80E-9BF785C7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96F45-2CFC-4255-938F-842EC436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E10B-142C-4ACC-AB80-0DF04E4999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91A8-A63B-4653-8829-1C6D6566B4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30F1-FA72-4F61-A3AE-A4286DB70A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B386-076C-474C-9B41-A7DFDF8EF2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81BD7-4B6D-4FB5-BA88-14D879B784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45212-FEDA-4E5C-9CD7-94BC472D27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71123-3A26-483B-AC56-1806037C0FF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8FE78-C075-45AB-878C-3FDF40B1DB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D236F-B921-4D0D-8A81-96FBCAFFA2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1ED1C-69EA-483F-839A-6BCCD3475D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5D657-2B45-4833-B0B8-B704D139B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91B3-DAC2-4A54-B32F-1A42500F409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95708-2484-4115-855A-C6273B36C5C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D3E97-C113-46F5-BDF9-43473D07885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D2117-C920-4B7C-840B-DA64D73439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158ED-15CD-4BE6-815E-42200BD0D86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EE3ED-463E-467D-8974-1A80240830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E5221-CC59-49F2-8BE1-50BC0FA788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F8AC-DEF6-4914-828A-74709C34C9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2A59-2205-4EEB-BA34-D8EA982214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3CD5-8997-4296-AE1F-8A58B9B82C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1386-6D35-4A2C-8FE4-91D3C14F1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0878-FB25-4E5F-9A76-CA291CE694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D745-37A2-4F01-A97A-38A698A5E7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3EAD-1D12-40E3-837A-3A12A24E4E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38B9-82CA-4AEB-9719-3F18E5F58C8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1B96-0292-49EF-A6A8-46F1B59D77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1F73-4FA0-4BB7-86DB-B25CDAADB7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297F-3EA1-4101-8852-1CD98A5DD7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04FA-0D25-43DB-9519-772857584C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A07D8-E7F7-409A-AB31-64A3BBEE89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B7435-93B5-4E79-9928-8C6C144A5C1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462F3-18BE-471F-810B-90570712D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4AC3-AAAB-4B66-930E-0E02108F0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ontent Placeholder 4" descr="Eagle Eye Logo_124.jpg"/>
          <p:cNvPicPr/>
          <p:nvPr/>
        </p:nvPicPr>
        <p:blipFill>
          <a:blip r:embed="rId3"/>
          <a:stretch/>
        </p:blipFill>
        <p:spPr>
          <a:xfrm>
            <a:off x="7972560" y="6157800"/>
            <a:ext cx="823680" cy="5479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3"/>
          <p:cNvSpPr/>
          <p:nvPr/>
        </p:nvSpPr>
        <p:spPr>
          <a:xfrm>
            <a:off x="457200" y="6018120"/>
            <a:ext cx="8305920" cy="1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7" name="DRightSquare"/>
          <p:cNvSpPr/>
          <p:nvPr/>
        </p:nvSpPr>
        <p:spPr>
          <a:xfrm>
            <a:off x="2782800" y="2054160"/>
            <a:ext cx="6361200" cy="274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DLeftSquare"/>
          <p:cNvSpPr/>
          <p:nvPr/>
        </p:nvSpPr>
        <p:spPr>
          <a:xfrm>
            <a:off x="0" y="2054160"/>
            <a:ext cx="2730600" cy="27417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1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266C-CD36-4930-A2A1-42E1F3E43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2"/>
          </p:nvPr>
        </p:nvSpPr>
        <p:spPr>
          <a:xfrm>
            <a:off x="456840" y="518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13"/>
          </p:nvPr>
        </p:nvSpPr>
        <p:spPr>
          <a:xfrm>
            <a:off x="4800600" y="434304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14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EC2-3276-4AAD-A967-F90559C73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AA1-2FC7-42F0-9D63-3DE73A3F3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4" descr="Eagle Eye Logo_124.jpg"/>
          <p:cNvPicPr/>
          <p:nvPr/>
        </p:nvPicPr>
        <p:blipFill>
          <a:blip r:embed="rId3"/>
          <a:stretch/>
        </p:blipFill>
        <p:spPr>
          <a:xfrm>
            <a:off x="7972560" y="6157800"/>
            <a:ext cx="823680" cy="54792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13"/>
          <p:cNvSpPr/>
          <p:nvPr/>
        </p:nvSpPr>
        <p:spPr>
          <a:xfrm>
            <a:off x="457200" y="6018120"/>
            <a:ext cx="8305920" cy="1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3"/>
          </p:nvPr>
        </p:nvSpPr>
        <p:spPr>
          <a:xfrm>
            <a:off x="456840" y="518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4800600" y="434304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0CAA-C73B-4CAA-82B4-AF48A1B14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t Placeholder 4" descr="Eagle Eye Logo_124.jpg"/>
          <p:cNvPicPr/>
          <p:nvPr/>
        </p:nvPicPr>
        <p:blipFill>
          <a:blip r:embed="rId2"/>
          <a:stretch/>
        </p:blipFill>
        <p:spPr>
          <a:xfrm>
            <a:off x="7543800" y="6019920"/>
            <a:ext cx="1066680" cy="609480"/>
          </a:xfrm>
          <a:prstGeom prst="rect">
            <a:avLst/>
          </a:prstGeom>
          <a:ln w="0">
            <a:noFill/>
          </a:ln>
        </p:spPr>
      </p:pic>
      <p:sp>
        <p:nvSpPr>
          <p:cNvPr id="127" name="Straight Connector 8"/>
          <p:cNvSpPr/>
          <p:nvPr/>
        </p:nvSpPr>
        <p:spPr>
          <a:xfrm>
            <a:off x="609480" y="5791320"/>
            <a:ext cx="8153640" cy="1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247680" y="4343400"/>
            <a:ext cx="2952720" cy="31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www2.istockphoto.com/file_thumbview_approve/7832203/2/istockphoto_7832203-business-discussion-over-coffee.jpg"/>
          <p:cNvPicPr/>
          <p:nvPr/>
        </p:nvPicPr>
        <p:blipFill>
          <a:blip r:embed="rId4"/>
          <a:stretch/>
        </p:blipFill>
        <p:spPr>
          <a:xfrm>
            <a:off x="5867280" y="533520"/>
            <a:ext cx="3124440" cy="35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ttp://www2.istockphoto.com/file_thumbview_approve/5496430/2/istockphoto_5496430-answers-road-sign.jpg"/>
          <p:cNvPicPr/>
          <p:nvPr/>
        </p:nvPicPr>
        <p:blipFill>
          <a:blip r:embed="rId5"/>
          <a:stretch/>
        </p:blipFill>
        <p:spPr>
          <a:xfrm>
            <a:off x="152280" y="533520"/>
            <a:ext cx="5562720" cy="35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"/>
          <p:cNvPicPr/>
          <p:nvPr/>
        </p:nvPicPr>
        <p:blipFill>
          <a:blip r:embed="rId6"/>
          <a:srcRect l="0" t="0" r="0" b="88974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Content Placeholder 4" descr="Eagle Eye Logo_124.jpg"/>
          <p:cNvPicPr/>
          <p:nvPr/>
        </p:nvPicPr>
        <p:blipFill>
          <a:blip r:embed="rId3"/>
          <a:stretch/>
        </p:blipFill>
        <p:spPr>
          <a:xfrm>
            <a:off x="7972560" y="6157800"/>
            <a:ext cx="823680" cy="54792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3"/>
          <p:cNvSpPr/>
          <p:nvPr/>
        </p:nvSpPr>
        <p:spPr>
          <a:xfrm>
            <a:off x="457200" y="6018120"/>
            <a:ext cx="8305920" cy="1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RightSquare"/>
          <p:cNvSpPr/>
          <p:nvPr/>
        </p:nvSpPr>
        <p:spPr>
          <a:xfrm>
            <a:off x="2782800" y="2054160"/>
            <a:ext cx="6361200" cy="274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LeftSquare"/>
          <p:cNvSpPr/>
          <p:nvPr/>
        </p:nvSpPr>
        <p:spPr>
          <a:xfrm>
            <a:off x="0" y="2054160"/>
            <a:ext cx="2730600" cy="2741760"/>
          </a:xfrm>
          <a:prstGeom prst="rect">
            <a:avLst/>
          </a:prstGeom>
          <a:solidFill>
            <a:srgbClr val="d9d9d9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agle Eye Logo_124HR.jpg"/>
          <p:cNvPicPr/>
          <p:nvPr/>
        </p:nvPicPr>
        <p:blipFill>
          <a:blip r:embed="rId3"/>
          <a:stretch/>
        </p:blipFill>
        <p:spPr>
          <a:xfrm>
            <a:off x="7664400" y="5943600"/>
            <a:ext cx="1098720" cy="7016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8"/>
          <p:cNvSpPr/>
          <p:nvPr/>
        </p:nvSpPr>
        <p:spPr>
          <a:xfrm>
            <a:off x="315000" y="434340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gle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Ey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6"/>
          </p:nvPr>
        </p:nvSpPr>
        <p:spPr>
          <a:xfrm>
            <a:off x="76320" y="607968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7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B87B-D3F0-40A6-88A4-4AAFE5825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76320" y="6079680"/>
            <a:ext cx="3124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9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BFE4-1A3F-44CD-8405-CA0C12C01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0"/>
          </p:nvPr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1A07-8D23-422F-89BA-633211A23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Line/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7"/>
          <p:cNvSpPr/>
          <p:nvPr/>
        </p:nvSpPr>
        <p:spPr>
          <a:xfrm>
            <a:off x="76320" y="763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We D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2"/>
          <p:cNvSpPr/>
          <p:nvPr/>
        </p:nvSpPr>
        <p:spPr>
          <a:xfrm>
            <a:off x="1066680" y="1447920"/>
            <a:ext cx="6705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agleEye Analytics helps P&amp;C insurance carriers improve their profi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ur powerful analytics engine was built specifically to analyze P&amp;C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e quickly deliver actionable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20"/>
          <p:cNvSpPr/>
          <p:nvPr/>
        </p:nvSpPr>
        <p:spPr>
          <a:xfrm>
            <a:off x="32004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F76B-25E1-455E-A0C1-94EDD7E2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047760" y="2895480"/>
            <a:ext cx="563868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121896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0880" y="837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4"/>
          <p:cNvSpPr/>
          <p:nvPr/>
        </p:nvSpPr>
        <p:spPr>
          <a:xfrm>
            <a:off x="914400" y="5257800"/>
            <a:ext cx="7467480" cy="609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vides “New Knowledge” previously un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5"/>
          <p:cNvSpPr/>
          <p:nvPr/>
        </p:nvSpPr>
        <p:spPr>
          <a:xfrm>
            <a:off x="533520" y="5257800"/>
            <a:ext cx="533160" cy="609480"/>
          </a:xfrm>
          <a:custGeom>
            <a:avLst/>
            <a:gdLst>
              <a:gd name="textAreaLeft" fmla="*/ 0 w 533160"/>
              <a:gd name="textAreaRight" fmla="*/ 533520 w 53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9"/>
          <p:cNvSpPr/>
          <p:nvPr/>
        </p:nvSpPr>
        <p:spPr>
          <a:xfrm>
            <a:off x="3429000" y="6356520"/>
            <a:ext cx="23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123B-FBA2-4608-A9E5-DFF759C55F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3:34:12Z</dcterms:created>
  <dc:creator>jrichards</dc:creator>
  <dc:description/>
  <dc:language>en-US</dc:language>
  <cp:lastModifiedBy>Lynda Lee</cp:lastModifiedBy>
  <dcterms:modified xsi:type="dcterms:W3CDTF">2012-01-18T19:37:43Z</dcterms:modified>
  <cp:revision>989</cp:revision>
  <dc:subject/>
  <dc:title>Slide 1</dc:title>
</cp:coreProperties>
</file>